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8656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9A81-0FD1-4EA5-8BB6-E29099185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DEBB-24F9-4138-AFE4-A2FACBF6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0FA8-57AC-456D-887B-B6FD99076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D4B5-743D-459D-B9CC-7B15B5730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A2FC-5754-4790-BAD1-A0FD41424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E866-E2BB-42F5-825B-6B962703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69F1-9027-4148-AB6E-04E2D3F7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4DAB-7442-4440-B88B-1E364BDD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49CD-2B11-466B-AE56-552216EA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5E0C-A47E-4A40-BD95-3817C4C1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2C3B-6E62-451C-9764-3E4E18E0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5DB0-FCAC-4EBF-9D18-E02146C5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F273-B29E-4CEF-A14F-E3066522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50D1-EA54-4BF4-836B-9AF482F7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B722-7BBD-4EF8-A0BD-5119DF96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893D-51B0-4E32-82C5-C70E75F46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4A50-2C20-4EAC-BF3D-C2826B47A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573A-0750-4E80-A6C8-9382C3C1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D094-BDE7-44B4-9D57-C7562CA0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DDC7-EC02-43CA-AEC1-4A27A70C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DB70-506F-4822-AC34-91C4D58A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FBD7-F15B-47DD-96F2-2EEA529F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7DB0-9800-47F9-AA24-139C28E9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E29B-4410-4D29-872D-5B6F4D48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FA4E-2C33-4D8E-BD3A-6EEE2D9C11AC}" type="slidenum"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1628640"/>
            <a:ext cx="7010280" cy="71640"/>
          </a:xfrm>
          <a:prstGeom prst="roundRect">
            <a:avLst>
              <a:gd name="adj" fmla="val 0"/>
            </a:avLst>
          </a:prstGeom>
          <a:solidFill>
            <a:srgbClr val="86d1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ADA2-C8D4-465D-A6A8-721423A9FC5F}" type="slidenum"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920" y="-114480"/>
            <a:ext cx="9144000" cy="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295640" y="1376640"/>
            <a:ext cx="71996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ffffff"/>
                </a:solidFill>
                <a:latin typeface="Arial"/>
              </a:rPr>
              <a:t>Elektronik Bankacılıkta</a:t>
            </a:r>
            <a:br>
              <a:rPr sz="4800"/>
            </a:br>
            <a:r>
              <a:rPr b="0" lang="tr-TR" sz="4800" spc="-1" strike="noStrike">
                <a:solidFill>
                  <a:srgbClr val="ffffff"/>
                </a:solidFill>
                <a:latin typeface="Arial"/>
              </a:rPr>
              <a:t>Uluslararası Yaklaşımla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Ahmet Türkay VAR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ilgi Yönetimi Dairesi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/ BDD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aire Başkan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E894-43B0-4FE4-94CF-516ABD99708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Önemli Konu Başlıkları / </a:t>
            </a:r>
            <a:br>
              <a:rPr sz="4000"/>
            </a:b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Karşılaşılan Risk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246400" y="1628640"/>
            <a:ext cx="520524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imlik Doğrul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İnkar Edeme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üvenlik (Gizlili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ahremiy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Veri Bütünlüğ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üşteri Bilgilendir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C73F-0E29-4178-9EFF-F4B99DE9ED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Öne Çıkan Korunma Teknikler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403280" y="1484280"/>
            <a:ext cx="6912000" cy="39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Çok Faktörlü Kimlik Doğrul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üşterinin Bildiği Bir Uns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üşterinin Sahip Olduğu Bir Uns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üşterinin Biyolojik Tekil Bir Özelliğ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-im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İletilen Verinin Şifrelenme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5DA4-4031-4CEE-9E2B-D9FB08664D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Karşılaşılan Güçlük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10920" y="1987200"/>
            <a:ext cx="806436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Bazı Tekniklerin Kullanım Alt Yapısının Oluşmamış Olması (E-İmz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Teknolojinin Gelişen ve Değişen Yapıs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enel Erişime Açık Ort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ullanıcı Bilinçlendir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BD9A-4B4D-4EFC-80F5-1C6B5E553D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BDDK Çalışmalar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71280" y="2211120"/>
            <a:ext cx="6985080" cy="35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Bankalarda Bilgi Sistemlerinin Yönetiminde Esas Alınacak İlkelere İlişkin Tebli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İnternet Bankacılığ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199B-5B98-4738-88F5-1B5AE2921F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512640" y="333360"/>
            <a:ext cx="771156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İLGİNİZ İÇİN TEŞEKÜR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SORU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8119-AC6F-4573-A71E-604657AA396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513000" y="32544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Çatı Kuruml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362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nk for International Settlements (BIS) – Electronic Banking Group of Basel Committee on Banking Superv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Elektronik Bankacılık için Risk Yönetimi İlkeleri” – Temmuz 2003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(Risk Management Principles for Electronic Bank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uropean Committee for Banking Standards (ECB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Elektronik Bankacılık için Güvenlik Kılavuzları: Basel Risk Yönetimi İlkeleri Uygulamaları” – Ağustos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(Security Guidelines for e-Banking: Application of Basel Risk Management Principl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15A1-5F86-4E09-9BE8-36903EAE18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ktronik Bankacılık İçin Risk Yönetim Prensipleri (I)*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66760" y="2176560"/>
            <a:ext cx="693432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Ana Başlıkla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Üst Yönetim Gözeti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üvenlik Kontrolle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Yasal Risk ve İtibar Riski Yöneti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5720" y="6580080"/>
            <a:ext cx="78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* BIS’in Temmuz 2003 tarihli “Risk Management Principles for Electronic Banking” dokümanınd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A77D-829B-4098-B719-79E44E3A82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ktronik Bankacılık İçin Risk Yönetim Prensipleri (I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53656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-Bankacılık Faaliyetleri Üzerinde Etkin Yönetim Gözeti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apsamlı Güvenlik Kontrol Süreçlerinin Tesis Edilme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Destek Hizmeti Alımına İlişkin Faaliyetlerin Gözetimi, Hizmet Kalitesi ve Diğer Unsurların Taki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47640" y="1785960"/>
            <a:ext cx="51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99"/>
                </a:solidFill>
                <a:latin typeface="Arial"/>
              </a:rPr>
              <a:t>Üst Yönetim Gözetim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389D-F6C8-4750-A0F5-A4D6E396E4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ktronik Bankacılık İçin Risk Yönetim Prensipleri (II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1280" y="2355840"/>
            <a:ext cx="822960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imlik Doğrul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-bankacılık İşlemleri İçin İnkar Edememe ve Güvenilirl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Görevler Ayrılığı İçin Uygun Önlem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-bankacılık Sistemleri, Veritabanları ve Uygulamaları İçin Uygun Yetkilendir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-bankacılık İşlemleri, Kayıtları ve Bilgileri İçin Veri Bütünlüğ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-bankacılık İşlemleri İçin Denetim İzlerinin (log) Tutul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ritik Banka Bilgileri İçin Gizlil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95640" y="162864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99"/>
                </a:solidFill>
                <a:latin typeface="Arial"/>
              </a:rPr>
              <a:t>Güvenlik Kontroller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6B1E-0108-44C2-9806-24F9FB3161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ktronik Bankacılık İçin Risk Yönetim Prensipleri (IV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46384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-bankacılık Hizmetleri İle İlgili Yeterli Açıkl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üşteri Bilgilerinin Mahremiye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-bankacılık Sistemlerinin ve Servislerinin Sürekliliğini Sağlamak Üzere Kapasite, İş Sürekliliği ve İhtimal Planlamas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Olay Cevap Plan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16923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99"/>
                </a:solidFill>
                <a:latin typeface="Arial"/>
              </a:rPr>
              <a:t>Yasal Risk ve İtibar Riski Yönetim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66C3-D66F-49D6-B948-62C5F588F3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 Alınma Biçimler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30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Düzenl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Mevcut Düzenlemeler Kapsamında Değerlendir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onuya İlişkin Yeni Düzenlemelerin Hazırlan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Kılavu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55640" y="5229360"/>
            <a:ext cx="68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ertifikasy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(WebTrust, BBBOnline, TrustUK,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3728-23AB-4E82-A2FC-2E118ECA25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Sertifikasyon - 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68360" y="1308240"/>
            <a:ext cx="8207280" cy="516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072F-F951-4B94-BD7B-3CA21A8D1F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Sertifikasyon - I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8360" y="1963800"/>
            <a:ext cx="8244000" cy="44895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68360" y="1225440"/>
            <a:ext cx="8280360" cy="73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8357-98FA-426B-9C28-B711BE9F7B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0:47:00Z</dcterms:created>
  <dc:creator>Zerrin Saba</dc:creator>
  <dc:description/>
  <dc:language>en-US</dc:language>
  <cp:lastModifiedBy>avarli</cp:lastModifiedBy>
  <dcterms:modified xsi:type="dcterms:W3CDTF">2007-05-22T12:08:34Z</dcterms:modified>
  <cp:revision>3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